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0.gif" ContentType="image/gif"/>
  <Override PartName="/ppt/media/image7.jpeg" ContentType="image/jpeg"/>
  <Override PartName="/ppt/media/image18.jpeg" ContentType="image/jpeg"/>
  <Override PartName="/ppt/media/image6.wmf" ContentType="image/x-wmf"/>
  <Override PartName="/ppt/media/image15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14.jpeg" ContentType="image/jpeg"/>
  <Override PartName="/ppt/media/image5.gif" ContentType="image/gi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066-765D-4BEF-8DBF-901590C2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332-C460-4992-B21B-2B4BBA8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F4E-A222-4E61-B717-F3F12A01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FD4-1868-4D5C-88D3-4C07CC64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513-CCEB-4E38-B7AE-3ECE9A7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18F-DE4B-4CA5-8DBC-27A19EC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850-0077-4AB9-958E-76DE49C1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544-5A42-4396-B14A-6744DD3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667-3CA5-4234-B788-5AC8EF5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2D5-593A-4154-BD04-E4272A1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972-D70F-4B66-990C-C7AD130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F5C-7C61-4F61-BE3F-25AD001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227F-CD29-47F7-A430-8C70DC8A14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ports.163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image.baidu.com/ir?u=http://www.leifeng.com/leifeng/Hua/Hehuan.jpg&amp;f=http://www.leifeng.com/leifeng/xianhua.aspx&amp;c=baidu" TargetMode="External"/><Relationship Id="rId3" Type="http://schemas.openxmlformats.org/officeDocument/2006/relationships/hyperlink" Target="http://image.baidu.com/ir?u=http://www.leifeng.com/leifeng/Hua/Hehuan.jpg&amp;f=http://www.leifeng.com/leifeng/xianhua.aspx&amp;c=baidu" TargetMode="Externa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609480"/>
            <a:ext cx="202752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团结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9880" y="914400"/>
            <a:ext cx="2133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彩云"/>
              </a:rPr>
              <a:t>宽容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彩云"/>
              <a:ea typeface="华文彩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5880" y="762120"/>
            <a:ext cx="2438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奋进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82080" y="561024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ail:yuanzhimin7@cdqzgj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914400"/>
            <a:ext cx="8686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世界最宽阔的是海洋，比海洋更宽阔的是天空，比天空更宽阔的是人的胸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                               ——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雨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26400" cy="6458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学会赞赏，才会发现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学会赞赏，才会有好朋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学会赞赏，才会取长补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学会赞赏，才会被别人赞赏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00200"/>
            <a:ext cx="6858000" cy="470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794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78720" y="609480"/>
            <a:ext cx="187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奋进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          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隶书"/>
              </a:rPr>
              <a:t>羚羊和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在非洲一望无际的草原上，有一个由各种动物组成的自然界动物社会。每天草原上羚羊睁开眼睛，所想的第一件事就是，我必须跑的更快，否则我会被狮子吃掉。与此同时，狮子从睡梦中醒来，首先在脑海里闪现的第一个念头就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必须跑的更快以追上更多的羚羊，否则我就会被饿死。于是与此同时，羚羊和狮子一跃而起，迎着朝阳跑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生活就是这样，无论你是羚羊还是狮子，每当太阳升起的时候，就要毫不迟疑的向前奔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大家先看一个小小的对话，看有什么启发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内容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学校举行文艺表演，他们是我们班上最能歌善舞的同学，我作为文娱委员当然要请他们在晚会上表演一两个节目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 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这么能歌善舞，能在晚会上为我们表演一个节目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自卑地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哎哟，我这歌喉和舞姿哪能见人呢，不要叫我出丑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班上的同学都很喜欢你的歌舞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 这是他们抬举我罢了，我哪有那么好的才能，而且我也没有这个胆量，你还是放过我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那我也不勉强了。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的歌舞也很出众，你愿意为我们作表演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哎，谢谢你的称赞。有机会让我在班上表演我当然乐意啦，而且这也是作为班集体的一分子的责任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会尽力而为的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文：   谢谢你的支持。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，你愿意参加表演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：   表演是我的强项，班上除了我还有人敢认第一吗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表演当然是非我莫属啦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!(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指着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)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不过他和我同台表演似乎不太相配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问：“表演中的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分别是什么心理的表现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“列优点清单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类别 　　             自我评价              他人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学习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交际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文娱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体育强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性格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动手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其 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大家要学会从多方位评价自己，把自己各方面的优点、长处一一罗列出来。请课后大家填好表格“我的优点”。具体详细地写出自己在学习能力、交际能力、文娱才能、体育强项、性格方面、动手能力和其它方面存在哪些优点和长处，写在自我评价一栏。再请父母、朋友、教师过目看有什么异议，写在他人评价一栏，达成共识，以保证自评优点的准确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当我们知道自己有这么多优点时信心自然会增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通过“列优点清单”如发现自己有过人之处就应制定计划发展这一特长，当我们知道自己有某些方面比别人优胜的话，信心也会增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感受别人的欣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到底别人对我们的赞扬和欣赏对我们的信心有何影响呢，先通过一个活动让大家感受一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活动：“优点轰炸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求：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组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找一个同学作被轰炸者，其它三个同学轮流说出他的优点、能力和特长，直到四个均被“轰炸”过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根据表现“我的优点”的项目给每位同学指出优点，并写在“他人评价”一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态度要认真、真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堂上示范：找出一个较为自卑的同学作为“被轰炸者”站在同学们中间，先由同组成员轮流说出其优点和长处，再请班上其它同学也补充说出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优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该同学：“刚才他们指出你的优点和长处有哪些是你原来不知道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这活动你认为别人的赞赏对你的信心有何影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“别人对我的赞赏能增强我的信心，并使我更进一步认识自己的优点和能力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所以建立自信的第二个方法是欣然接受别人的赞赏，并进一步认识自己的能力。从这活动可总结出一个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别人肯定性的评价能增强自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别人否定性的评价会削弱自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问：“根据这个结论我们要帮助朋友建立自信，应注意什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“尽量帮助朋友找出他身上存在的优点和长处，并真诚、大方地给予赞扬。但千万不要随便地批评、责骂和嘲讽别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多尝成功的体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遇到挫败信心自然有所削弱，遇到成功信心自然会增加。所以使自己经常尝到成功的体验的话，自信自然会增强。多尝成功体验的窍门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⑴多做自己最拿手，容易取得成功的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例：有的同学学习成绩不理想，想提高学习成绩的话，不要期望一下子全面提高。可以先攻自己最感兴趣、最容易提高的科目，一科成绩有了提高信心随之增强，然后再攻第二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⑵把目标分为若干阶段的小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例：某位同学期中考数学成绩是在班平均以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的位置，他的目标是希望在期末考数学成绩在班平均以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的位置，就可把这目标分为若干步骤完成：接下来第一次测验达班平均以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；第二次测验达班平均分；第三次测验达班平均以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；最后在期末考达班平均以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。把目标分为若干阶段小目标，每经过一定努力，小目标达到了，成功的体验就产生了，这成功体验又继续激励自己向目标行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过渡：最后介绍一个方法，也是建立自信的最根本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充实自我，提高自身素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自信是不能凭空产生的，必须有知识面广，分析、解决问题能力较强这些良好素质作为基础才会有真正的自信。如果知识浅薄却自我感觉很好便是自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问：“作为中学生要打好自信的基础应如何做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请几个较为自信同学回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归纳学生答案：作为中学生关键是打好扎实的知识基础，扩展课外知识面，锻炼和发展各种能力，掌握基本的技能，总而言之要使自己各方本领都过硬才能成为一个真正自信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请几位同学回答刚才的问题：“学生成绩不理想的同学如何建立学习信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归纳学生答案：要建立学习信心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提高自己擅长的或较容易提高的科目入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自己为起点，定立切合自己实际情况的学习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学习目标分成若干阶段具体的小目标来执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付出真正的努力，以勤补拙，打好扎实的学习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束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总之每个人身上总会存在优点，存在某些过人之处，如果你懂得保持自信，定立适当的目标，付出真正的努力，满怀信心地向目标一步步行进，成功将会是属于你的。请记信：“天生我才必有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A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卑心理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B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信心理 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C </a:t>
            </a:r>
            <a:r>
              <a:rPr b="1" lang="zh-CN" sz="3200" spc="-1" strike="noStrike">
                <a:solidFill>
                  <a:srgbClr val="333300"/>
                </a:solidFill>
                <a:latin typeface="Times New Roman"/>
                <a:ea typeface="隶书"/>
              </a:rPr>
              <a:t>自大心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　　  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大－－过高地评价自己，看不到自己的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信－－恰当地评价自己的优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自卑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----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过低地评价自己，看不到自己的优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幼圆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8380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亲爱的同学们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希望你们以一颗宽容的心去看待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和学习中的一切人及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让我们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3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颗心紧紧连在一起，不管风吹雨打，我们一路风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向前走，因为胜利就在不远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1326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304920"/>
            <a:ext cx="5410080" cy="19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我们的全家 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6324120" y="-152280"/>
            <a:ext cx="1371600" cy="24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彩云"/>
              </a:rPr>
              <a:t>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第一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团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蚂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238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Times New Roman"/>
                <a:ea typeface="隶书"/>
              </a:rPr>
              <a:t>我们班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14300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9144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女生寝室都有这样一个优秀的集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在每一次的活动和清洁打扫中他们总是表现优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多次得到表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在他们的集体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无时不充满温暖和欢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也有这样一个集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在他们中随时充满“战争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其中的一个同学非常内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他们总是有意无意的挑逗别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使得这个同学多次找我想离开这个集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但是经过一段时间，他们改变了，变成了一个好的集体。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幼圆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497720" y="5410080"/>
            <a:ext cx="1646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52520" y="54514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  <a:ea typeface="隶书"/>
              </a:rPr>
              <a:t>2----030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  <a:ea typeface="隶书"/>
              </a:rPr>
              <a:t>寝室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74360" y="5257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3—00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寝室的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47960" y="507060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2---029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寝室的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木桶原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一只木桶他装水的多少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不是取决于最长的那一块木板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而是最短的那一块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37160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9080" y="380880"/>
            <a:ext cx="639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第二篇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</a:t>
            </a: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宽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2816280"/>
            <a:ext cx="6553080" cy="25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感受别人赞赏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34:18Z</dcterms:created>
  <dc:creator/>
  <dc:description/>
  <dc:language>en-US</dc:language>
  <cp:lastModifiedBy>User</cp:lastModifiedBy>
  <dcterms:modified xsi:type="dcterms:W3CDTF">2013-04-14T02:32:24Z</dcterms:modified>
  <cp:revision>1</cp:revision>
  <dc:subject/>
  <dc:title>幻灯片 1</dc:title>
</cp:coreProperties>
</file>